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81D-C9C8-4A7D-82CC-4AB0C8EE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A7E-F821-489C-9F65-A77758C6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CDB-7FD3-4353-A83B-A848CE36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82C-04C0-4434-8DB2-9F137C3E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708-C4E1-4173-8E26-6FB2EA11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12C-7EAF-4E78-9CAB-C3738644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5EB-18CE-43EF-8C4F-FF8FF65D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358-19D8-4A32-ABCE-D6B3EF5E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AAC-5AEF-491F-9F0A-C637BE8F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950-0ACA-41F4-8472-468AD2C5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528-C80B-4244-AF8D-262AB5C8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FF9-9052-448C-9E34-3189094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483A-E8FD-47E2-A48D-CECF2E415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s 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ificant Fig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“Sig Figs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 tool used by scientists when expressing measured data and calculations involving measur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3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ros to the right of a decimal are significant if they are also to the right of a non-zero di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447920"/>
          <a:ext cx="4038480" cy="5105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0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9.0030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007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5000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648320" y="144792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Number of Sig F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648320" y="2514600"/>
          <a:ext cx="4038480" cy="10303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5760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648320" y="4724280"/>
          <a:ext cx="4038480" cy="838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8320" y="563868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 that ru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difference in meaning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m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is person might be using a map with a ruler that has a 10 mile sc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0 m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is person might be reading a map with a ruler that has a 1 mil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00 m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is person might be reading a map with a ruler that has a 0.1 mil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le 4 –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e zeros are never significa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447920"/>
          <a:ext cx="4038480" cy="5176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456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15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230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88117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648320" y="144792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Number of Sig F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648320" y="2514600"/>
          <a:ext cx="4038480" cy="10303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48320" y="365760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648320" y="4724280"/>
          <a:ext cx="4038480" cy="838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648320" y="563868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5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ros to the left of an understood decimal are not significant unless a line is used (or a decimal is properly placed 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76520"/>
          <a:ext cx="4038480" cy="51638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0.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0.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3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648320" y="167652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Number of Sig F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648320" y="2666880"/>
          <a:ext cx="4038480" cy="10303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3809880"/>
          <a:ext cx="4038480" cy="762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48320" y="480060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648320" y="5867280"/>
          <a:ext cx="4038480" cy="990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a line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447920"/>
          <a:ext cx="4038480" cy="5128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648320" y="144792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Number of Sig F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648320" y="2514600"/>
          <a:ext cx="4038480" cy="10303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48320" y="365760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48320" y="4724280"/>
          <a:ext cx="4038480" cy="838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648320" y="563868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09480" y="26668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743200"/>
          <a:ext cx="19047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1904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37339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7339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47920" y="3657600"/>
          <a:ext cx="190476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657600"/>
                    <a:ext cx="1904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295280" y="4724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47920" y="4724280"/>
          <a:ext cx="190476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724280"/>
                    <a:ext cx="1904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71600" y="57150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5715000"/>
          <a:ext cx="190476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715000"/>
                    <a:ext cx="1904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Get Some Practice Fir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.1 k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4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,000 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.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.2 m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0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03 m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743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962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52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525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ing Fur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, at this point, any time a person on the street asks you how many sig figs there are in a number, now you’ll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ously, though…none of this is important unless you are taking empirical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rical data describes the simplest type of data – such as the length of an index card in cm or the mass of a kidney bean in gra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 chemists and physicists, this is what we’re all abo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Sig Figs in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stating that a pane of glass measures 9.92 cm on a side communicates something about the device used to measure that lengt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often times we need to know the area covered or the volume of the objec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ten, your labs will involve calculating some values.  There are some simple rules for manipulating thi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le for Multiplying and Dividing with Significant Fig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al answer must have no more sig figs than the measurement with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 of sig f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ay all measurements are in c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2.4 x 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890.4  (calculat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100 x 24.88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2488.7 (calcu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29.9 x 0.00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1495 (calcu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87.9 / 0.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2197.5 (calcu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35.000 / 7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5 (calculat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6095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le for Adding and Subtracting with Significant Fig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al answer must have no more decimal places than the measurement with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 of decimal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ay all measurements are in c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2.4 + 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63.4  (calculat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0.10 + 24.88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24.987 (calcu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30.0 - 0.00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9.995 (calcu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87.90 + 0.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88.3 (calcu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35.000 - 7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28 (calculat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4.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8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6095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am I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ust no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nding out about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 figs are important “tools” used by ALL scientists, but are generally not emphasized below Chemistry on the high school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y trouble their heads and Bio is not as quantitative as Chemistry or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 (the “Physical Sciences”) involve many measurements – among them time, displacement, velocity, moles, grams, liters, molarities, voltage, frequency, radius, watts, etc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s and Physicists therefore must present data in a manner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scient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Trust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Understan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vel of sophistication of the equi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was used to take the measur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ath Teachers use this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speaking,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 reason for that is simp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use MEASURED VALUES (taken from some instrument) and most math problems involve “counted” numbers. (ie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many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in the room? Not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tall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udent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t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have a unit associated with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ig Figs help communicate the level of sophistication of the measuremen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Arial"/>
              </a:rPr>
              <a:t>THAT’S WHAT  </a:t>
            </a:r>
            <a:r>
              <a:rPr b="1" i="1" lang="en-US" sz="8800" spc="-1" strike="noStrike">
                <a:solidFill>
                  <a:srgbClr val="ffff00"/>
                </a:solidFill>
                <a:latin typeface="Arial"/>
              </a:rPr>
              <a:t>SIG FIGS</a:t>
            </a:r>
            <a:r>
              <a:rPr b="1" i="1" lang="en-US" sz="8800" spc="-1" strike="noStrike">
                <a:solidFill>
                  <a:srgbClr val="ffffff"/>
                </a:solidFill>
                <a:latin typeface="Arial"/>
              </a:rPr>
              <a:t>  DO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a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a piece of yarn and ties a knot the length of the yarn each meter for 10 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a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meter st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oth have to measure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ngth of the lab coun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ne MUST have a different answer – Ron’s will be less 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c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but each will be “correct” if they “follow the rul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measur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measuring the same thing. Shouldn’t the recorded value be the s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le 1 –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non-zero digits are significa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447920"/>
          <a:ext cx="4038480" cy="5176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456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00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5.7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88117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48320" y="144792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Number of Sig F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8320" y="2514600"/>
          <a:ext cx="4038480" cy="10303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48320" y="365760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648320" y="4724280"/>
          <a:ext cx="4038480" cy="838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48320" y="563868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2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ros between two non-zero digits are significant (the “sandwich”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523880"/>
          <a:ext cx="4038480" cy="54579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5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1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3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007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8320" y="1523880"/>
          <a:ext cx="4038480" cy="838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Number of Sig F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48320" y="2590920"/>
          <a:ext cx="4038480" cy="10303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48320" y="365760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48320" y="4724280"/>
          <a:ext cx="4038480" cy="838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648320" y="563868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57:23Z</dcterms:created>
  <dc:creator>marti andreski</dc:creator>
  <dc:description/>
  <dc:language>en-US</dc:language>
  <cp:lastModifiedBy>andreskim</cp:lastModifiedBy>
  <dcterms:modified xsi:type="dcterms:W3CDTF">2006-09-05T16:55:37Z</dcterms:modified>
  <cp:revision>53</cp:revision>
  <dc:subject/>
  <dc:title>Significant Figures</dc:title>
</cp:coreProperties>
</file>